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F795-B04C-4199-B2D1-F1252558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7D84-0C0E-4C96-B837-1D265427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F0CC-0D30-420C-BE52-1E1C6BF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2FC7-EB27-4F3C-B6AC-D1514285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E8BD-23CC-4126-AA5E-7E4C154E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E8DA-0ED9-41B8-9641-53DD9CF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6850-EF09-4941-A0E6-BC78AEEC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3AC-E541-4A4F-AC7C-55A91F2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76B-8D43-4385-9B79-8C09DF8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7AE-C741-40BC-92EE-40D4D7A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9A2-9B18-4368-BBE0-CAED2D9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B4E7-494F-49CE-B672-4062C1A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6D7A-F4B8-42D3-8EC8-125A8AC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4231-F363-4BF3-A1A6-9053813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C129-1428-4FBE-A4E8-E9D0CF01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2699-5C88-4100-B804-76A054A4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8AC2-C350-4926-AB3B-85C09405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CC0B-A7CC-4F7E-8F3E-B81F060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50C8-4185-4576-BFBC-817B6A7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B1BE-2535-4C68-85C8-2DB7AAE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272C-4541-456B-860A-53F7385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D5E9-5A17-4F53-A5B9-5658098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CD6D-5D51-4F3E-BFBC-794A7E4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4A61-181C-4FE9-B504-D276551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1BE4-2E0A-4247-829A-B879B8B4A10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9624-3950-4516-985A-90364ED0773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uro" TargetMode="External"/><Relationship Id="rId2" Type="http://schemas.openxmlformats.org/officeDocument/2006/relationships/hyperlink" Target="http://pt.wikipedia.org/wiki/Bronze" TargetMode="External"/><Relationship Id="rId3" Type="http://schemas.openxmlformats.org/officeDocument/2006/relationships/hyperlink" Target="http://pt.wikipedia.org/wiki/Marfim" TargetMode="External"/><Relationship Id="rId4" Type="http://schemas.openxmlformats.org/officeDocument/2006/relationships/hyperlink" Target="http://pt.wikipedia.org/wiki/Magia" TargetMode="External"/><Relationship Id="rId5" Type="http://schemas.openxmlformats.org/officeDocument/2006/relationships/hyperlink" Target="http://pt.wikipedia.org/wiki/M&#225;scara" TargetMode="External"/><Relationship Id="rId6" Type="http://schemas.openxmlformats.org/officeDocument/2006/relationships/hyperlink" Target="http://pt.wikipedia.org/wiki/Misticismo" TargetMode="External"/><Relationship Id="rId7" Type="http://schemas.openxmlformats.org/officeDocument/2006/relationships/hyperlink" Target="http://pt.wikipedia.org/wiki/Ritual" TargetMode="External"/><Relationship Id="rId8" Type="http://schemas.openxmlformats.org/officeDocument/2006/relationships/hyperlink" Target="http://pt.wikipedia.org/wiki/Funeral" TargetMode="External"/><Relationship Id="rId9" Type="http://schemas.openxmlformats.org/officeDocument/2006/relationships/hyperlink" Target="http://pt.wikipedia.org/wiki/Argila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onsciência Negra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balho de Histó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tribuição Cultural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é celebrado em 20 de Novembro no Brasil e é dedicado à reflexão sobre a inserção do negro na sociedade brasilei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data foi escolhida por coincidir com o dia da morte de Zumbi dos Palmares, em 1695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procura ser uma data para se lembrar a resistência do negro à escravidão de forma geral, desde o primeiro transporte forçado de africanos para o solo brasilei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lgumas entidades como o Movimento Negro (o maior do gênero no país) organizam palestras e eventos educativos, visando principalmente crianças negras. Procura-se evitar o desenvolvimento do auto-preconceito, ou seja,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da inferiorização perante a socie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-46180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Religião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 índio e o negro,obrigados à aceitar a religião dos senhores,continuavam a crer nos seu Deuses e,os cultuavam,na clandestinidade.Descobertos,eram castigados severamente,muitos morreram,acusados de mandingas contra a Casa Gran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nda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 Batalha contra a Morte; Quem perde o corpo é a língua ;O homem-leão e o gado; A menina e o barril; O demônio que engolia vidas;Kigbo e os espíritos do mato; O homem que carrega a morte nas costas; A Viúva Velha; lendas européias como: Vikings, Celtas, Russas, Japones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Utensíl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escultura foi uma forma de arte muito utilizada pelos artistas africanos usando-se 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1"/>
              </a:rPr>
              <a:t>ou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2"/>
              </a:rPr>
              <a:t>bronz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3"/>
              </a:rPr>
              <a:t>marfi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como matéria prima. Representando um disfarce para a incorporação dos espíritos e a possibilidade de adquirir forç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4"/>
              </a:rPr>
              <a:t>mágic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5"/>
              </a:rPr>
              <a:t>máscar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têm um significad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6"/>
              </a:rPr>
              <a:t>místic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importante na arte africana sendo usadas no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7"/>
              </a:rPr>
              <a:t>ritu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8"/>
              </a:rPr>
              <a:t>funer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 As máscaras são confeccionadas em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9"/>
              </a:rPr>
              <a:t>bar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marfim, metais, mas o material mais utilizado é a madeira. Para estabelecer a purificação e a ligação com a entidade sagrada, são modeladas em segredo na selva. Visitando os museus d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uropa Ociden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é possível conhecer o maior acervo da arte antiga africana no mu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ábitos Culinár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o se sabe, o continente africano é habitado por uma vasta gama de etnias e, portanto, de culturas, as quais, de norte a sul, são marcadas por suas especificidades. A diversidade cultural existente na África reflete-se também nos hábitos alimentares dos africanos e na preparação dos alimentos, ou seja, n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 african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dicionalmente, esta combina as frutas disponíveis nas localidades, grãos, vegetais, leite e carne. Porém, em algumas regiões do continente, o alimento tradicional predominante deriva do leite, como a coalhada e o soro. Alguns alimentos como o milho, a mandioca e a abóbora, originários da América, foram introduzidos na África pelos europeus, ao longo do século XVI. Lembramos também que as influências da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s árab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asiática e européia se fizeram sentir ao longo da história do contin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omes: Victor e Eduardo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érie: 7 Ano “B”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rs°: 07 e 24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4:32Z</dcterms:created>
  <dc:creator>SEDMS</dc:creator>
  <dc:description/>
  <dc:language>en-US</dc:language>
  <cp:lastModifiedBy>administradorr</cp:lastModifiedBy>
  <dcterms:modified xsi:type="dcterms:W3CDTF">2010-11-09T17:37:28Z</dcterms:modified>
  <cp:revision>2</cp:revision>
  <dc:subject/>
  <dc:title>Consciência Negra</dc:title>
</cp:coreProperties>
</file>